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E21-0823-423D-A83A-973D856E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8B5-14CA-4D9B-AD50-D8896F79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BF2-03B6-4A5F-B036-4C535118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302-EE6F-4B14-923F-044FBF1E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104-3E65-416C-B534-B3D3E1FA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48F-3BA0-40C5-A1B7-0E47F901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F14-903F-4F76-BC67-7E2A2260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8BF0-B02C-43DA-8E66-24D96C5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284-0C33-414E-BBB4-16F038B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A338-FF54-44E6-BB97-791FBE4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825F-803F-4FE1-860C-993414E7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439-F759-4321-8B2B-582F92D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E8D7-7BB1-4DF3-B32B-A3ABC07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3B5A-91DF-4A83-AF2A-8AAA1A6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A95F-BE8C-451F-BDBC-DA28AA2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AB7-C52A-4A28-B819-A29ED842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AE29-6197-4EA6-8989-9435F2DA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0C9D-6E25-422C-BB18-CF7F8742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822C-A024-4DCC-979E-25E711D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07BB-F460-4ACE-B818-22341F1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57C6-B1F3-4A7D-9748-9D35C21C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CCE0-929F-4685-8B72-B6AA301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61E-114B-4ADE-9F8E-D50F019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0CA3-A8CA-4424-B97A-0473631C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9BC9-CE51-4E8F-95EA-8E2A0B8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9703-1DCC-43C7-9728-06A0E6A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95CF-7D1A-4B63-ADA8-A31F0D3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E0C7-6E92-4227-BBDA-D4A835D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4FC1-0926-4F33-AD7F-B2715EAE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C4F4-86B4-4629-A6F5-34029252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568-CDBF-47A4-9B59-CFFCCE3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958-765B-4E07-AF1F-2385BC0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A29-DEDB-4B09-97BF-8847F73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C07-86E2-4F77-B989-50B3BEB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12F-8AE9-4C60-B859-9F505FD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04E-A052-4259-9366-B04A00C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61A-7C06-44D3-8A81-438DB952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E01-2CB8-4225-A547-2FEBC8993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92B-DB03-4540-A508-33165CFAA0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360" y="1125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Room 8’s</a:t>
            </a:r>
            <a:br>
              <a:rPr sz="6600"/>
            </a:b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Comic Life of</a:t>
            </a:r>
            <a:br>
              <a:rPr sz="6600"/>
            </a:br>
            <a:r>
              <a:rPr b="1" lang="en-NZ" sz="6600" spc="-1" strike="noStrike">
                <a:solidFill>
                  <a:srgbClr val="9900ff"/>
                </a:solidFill>
                <a:latin typeface="Bradley Hand ITC"/>
              </a:rPr>
              <a:t>Famous Peopl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5128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132080" cy="683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56080" cy="677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20:02Z</dcterms:created>
  <dc:creator>administrator</dc:creator>
  <dc:description/>
  <dc:language>en-US</dc:language>
  <cp:lastModifiedBy>administrator</cp:lastModifiedBy>
  <dcterms:modified xsi:type="dcterms:W3CDTF">2010-08-20T09:13:06Z</dcterms:modified>
  <cp:revision>7</cp:revision>
  <dc:subject/>
  <dc:title>Slide 1</dc:title>
</cp:coreProperties>
</file>